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click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8606839-2DAE-425E-B61F-9A8748D6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082BE6-05F4-4C01-A7DF-840A5ABE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C279442-3B9A-41E0-AD04-3D6E954D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04FCD9E-6D66-47F5-83FB-2C8FD47B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C7633C7-F90F-4B9E-8B63-201E31DDF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BCC-C4CF-47EB-8F3A-F78BF29C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667-5C71-40EE-8C06-F91A254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599-2C33-4594-8309-E60E9490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100-48F1-4CB3-98C4-C6904E93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3B84-2DC2-4480-9517-0652248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579E-6713-4570-AD7E-418BCF0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79B-BF4D-4190-A5BA-BE39749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CAFF-AB08-493A-A5AB-6BB057A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2306-EAED-4519-A4E0-C5B0A1D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0437-27AC-434D-9001-F47A869D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C7B-08F0-4402-BB00-3122240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75A-AD29-4E49-AB6E-DF2B090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32B4-A8AC-45AB-BBC1-E2961A7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6CA-67E1-4084-8D2D-E358681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093B-1A7B-4373-8E0D-FA7D147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B45F-823A-4148-A925-C25CA179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AA6E-C368-4E5E-A56D-9AC1266F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4094-D51E-4481-AD81-CF475EF2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E9EE-1D62-4574-B5D6-077F3495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8D54-89C7-4961-A1BE-0D1D8A5B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26B5-B101-43AB-9D5E-5E46A8B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CBEC-FEC6-46B1-95DD-83629CC4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6BC-60AD-4BA6-A490-7B0661AD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311A-7323-4AF8-882A-C647132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B516-95FD-4E4F-9BBB-CDA7C6F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7AA0-3644-40A7-BA38-122BA90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89A4-214C-46A2-85FD-3EF9CB3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A833-66EC-44F0-B182-D1397CA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988E-03D5-4071-BCE0-63F866F9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1C68-CDBB-43AB-A7B3-75D56DA8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7A5E-E1C3-41D2-874D-560506A7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C97C4-A0D1-4FD7-A4A4-57F54CA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EC46-9734-4960-95F3-2D8DF2F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EB7-413A-42C3-AA8D-C597797A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0510-4EFF-419F-A775-7B0412E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7025-E360-47E7-9146-E1C4A4B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026E-B3D3-47FC-B7E0-A7AE1D47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4E99-EFD4-4123-A4BF-3E9F778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F145-32D5-474A-BA36-662EA559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95F1F-1322-41D9-B740-2DB5586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27DD-DC9C-4BDF-BDDC-F14B82E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533F-7776-47F4-BB63-DEDAAD23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9DC6-1813-49D3-BACF-5CC2EF13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A555-538C-49DF-AD5D-A273F7E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E0C-EF68-4F84-BF48-0E1FA77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C14F-87FD-4A48-9586-2F67791B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4EE4-E8CD-426A-8298-CD417D4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8587-5628-448D-8B74-C034229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5988-DFCC-450B-A5B2-837EBD2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9632-657C-43D1-9D06-F9DA747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7AAD-9D60-4255-BA0E-1D42B8A6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0E9B-E99A-41EC-8129-1F622D9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F7F7-FA89-40C7-8506-8A0BDF0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15DC-05F4-454B-9665-1379D3A7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496B-D733-464D-A176-5434CBC5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536-8B33-4DFB-979F-536EFAA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C61B-2B02-4EC3-A966-B6C7C37E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271D-E46D-4E18-AD17-0D0413F5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FFC5-EAB8-4F66-81F5-551F457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23AC-3BCB-4D9E-A05A-49A137DC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6ACE-5D22-4B42-8902-AB698C5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0DF6-B2FD-4A93-B234-435A13D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1E55-93F7-4BAF-A520-E8560D7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D1F0-9193-45C5-83D7-F904BBA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6571-5FAA-444B-8357-88B4375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3BAD-77CD-4AA1-8CEB-303CE06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314-1651-40DA-B4A4-5538CAD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C338-039D-4AD2-BD7E-8406863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0A06A-DEF5-4787-B94D-0FDFB56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B13B-54DE-4B0E-A357-B2FBB874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ABF36-7E64-4B61-B237-D0F94D6F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0F65-5330-4BAE-9F22-2F2E987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499F-5ABD-472C-A743-500C3A48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E71B-2686-47FC-A0AC-0BB4B52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1053-4EF7-4F4B-A6E3-5AC920F0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74B1-BCCC-48B9-80E3-8DB3F9F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63DA-6C0B-46A1-B903-E462718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EB4-2296-459F-A40E-7FE4415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0625F-548C-4EC1-A377-C416C5F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248E-782A-4F3D-9368-967A956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D8A1-BACE-40FA-8A28-D1DFAD2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C7C2-F126-4F6E-9945-05614E64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2D5C-E751-40D2-8175-F18789A8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2165-E8DA-4EB2-AE40-2F80064F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60B1-60C8-46A0-A2BA-5C1BD27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62AF9-2E64-4B20-98D0-4E7F14A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2D58-872D-471D-A10B-29590BE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C89A-7125-4CFC-802D-19DF0EA7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70F-8094-4F7E-9ABC-CCA5ACC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0562-5C13-403B-8C1E-C8CB8270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2778-11C9-4823-BD84-59C0BA4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43734-FFF8-416E-8F5A-24DF5EE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7680-4E61-4F25-AEBF-A3498A6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67F4-4A18-48BE-8FE6-6439349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2CDE-A0E8-4857-88D3-E1DE60F9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D2DEE-3D7C-40D9-8F16-0F8B4D92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C6EE-7BE6-4CA8-8A29-1D00D3D50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EF2-AF6B-4B1A-931B-8246D08C29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AE9D-D387-4EC3-872B-6F84189CA2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6995-CC19-4613-9873-56BCDFE584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5CD-6DEF-4672-A178-7C4B5A5198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728-F35A-45AF-8E12-D33DF7733F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0EA-21F0-4A65-B7E5-19B1AD8EC3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2EA-A036-456D-9305-3CA6F3C8E0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hecker dir="vert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t-, Auth-, Aut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f, by, or for oneself; self propell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ps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hor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one wh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biograp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cracy/ autocr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utobiography.jpg"/>
          <p:cNvPicPr/>
          <p:nvPr/>
        </p:nvPicPr>
        <p:blipFill>
          <a:blip r:embed="rId2"/>
          <a:stretch/>
        </p:blipFill>
        <p:spPr>
          <a:xfrm>
            <a:off x="3505320" y="4495680"/>
            <a:ext cx="1218960" cy="1895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automobile.jpg"/>
          <p:cNvPicPr/>
          <p:nvPr/>
        </p:nvPicPr>
        <p:blipFill>
          <a:blip r:embed="rId3"/>
          <a:stretch/>
        </p:blipFill>
        <p:spPr>
          <a:xfrm>
            <a:off x="6629400" y="44956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author.jpg"/>
          <p:cNvPicPr/>
          <p:nvPr/>
        </p:nvPicPr>
        <p:blipFill>
          <a:blip r:embed="rId4"/>
          <a:stretch/>
        </p:blipFill>
        <p:spPr>
          <a:xfrm>
            <a:off x="1295280" y="3200400"/>
            <a:ext cx="1381320" cy="2666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authorr.jpg"/>
          <p:cNvPicPr/>
          <p:nvPr/>
        </p:nvPicPr>
        <p:blipFill>
          <a:blip r:embed="rId5"/>
          <a:stretch/>
        </p:blipFill>
        <p:spPr>
          <a:xfrm>
            <a:off x="7391520" y="228600"/>
            <a:ext cx="1314360" cy="1600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-, Bin-, Bis-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6632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wo; twice; dou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1520" y="1371600"/>
            <a:ext cx="38149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annual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nnu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year or year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came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cent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gam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lingua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l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uffix meaning of or pertaining to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nocul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pe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d/ped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t; foot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sect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ec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to cut; divid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illions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,000,000,000; 1000 mill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6" descr="bigamy.jpg"/>
          <p:cNvPicPr/>
          <p:nvPr/>
        </p:nvPicPr>
        <p:blipFill>
          <a:blip r:embed="rId2"/>
          <a:stretch/>
        </p:blipFill>
        <p:spPr>
          <a:xfrm>
            <a:off x="1143000" y="19810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bilingual.jpg"/>
          <p:cNvPicPr/>
          <p:nvPr/>
        </p:nvPicPr>
        <p:blipFill>
          <a:blip r:embed="rId3"/>
          <a:stretch/>
        </p:blipFill>
        <p:spPr>
          <a:xfrm>
            <a:off x="3429000" y="2590920"/>
            <a:ext cx="1790640" cy="1676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bilinguall.jpg"/>
          <p:cNvPicPr/>
          <p:nvPr/>
        </p:nvPicPr>
        <p:blipFill>
          <a:blip r:embed="rId4"/>
          <a:stretch/>
        </p:blipFill>
        <p:spPr>
          <a:xfrm>
            <a:off x="1066680" y="4572000"/>
            <a:ext cx="24386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binocular.jpg"/>
          <p:cNvPicPr/>
          <p:nvPr/>
        </p:nvPicPr>
        <p:blipFill>
          <a:blip r:embed="rId5"/>
          <a:stretch/>
        </p:blipFill>
        <p:spPr>
          <a:xfrm>
            <a:off x="3733920" y="5867280"/>
            <a:ext cx="1285920" cy="800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biplane.jpg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1447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-, Bio-, Bio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fe; liv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ps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graphy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rap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= something that is writte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phibi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tibiot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obiograph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mbi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refix meaning bo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6" descr="biography.jpg"/>
          <p:cNvPicPr/>
          <p:nvPr/>
        </p:nvPicPr>
        <p:blipFill>
          <a:blip r:embed="rId2"/>
          <a:stretch/>
        </p:blipFill>
        <p:spPr>
          <a:xfrm>
            <a:off x="7391520" y="228600"/>
            <a:ext cx="1352520" cy="1523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biology.jpg"/>
          <p:cNvPicPr/>
          <p:nvPr/>
        </p:nvPicPr>
        <p:blipFill>
          <a:blip r:embed="rId3"/>
          <a:stretch/>
        </p:blipFill>
        <p:spPr>
          <a:xfrm>
            <a:off x="1143000" y="47242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amphibious.jpg"/>
          <p:cNvPicPr/>
          <p:nvPr/>
        </p:nvPicPr>
        <p:blipFill>
          <a:blip r:embed="rId4"/>
          <a:stretch/>
        </p:blipFill>
        <p:spPr>
          <a:xfrm>
            <a:off x="2971800" y="23623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amphibiouss.jpg"/>
          <p:cNvPicPr/>
          <p:nvPr/>
        </p:nvPicPr>
        <p:blipFill>
          <a:blip r:embed="rId5"/>
          <a:stretch/>
        </p:blipFill>
        <p:spPr>
          <a:xfrm>
            <a:off x="7391520" y="3581280"/>
            <a:ext cx="1523880" cy="1609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1-22T15:11:17Z</dcterms:modified>
  <cp:revision>25</cp:revision>
  <dc:subject/>
  <dc:title>Roots List #1</dc:title>
</cp:coreProperties>
</file>